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F6D5-9DC1-43DF-9FC2-64F79A30F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356000"/>
            <a:ext cx="50338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356000"/>
            <a:ext cx="50338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FA7-1412-4A34-B2DD-E2DB5322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1FF-4378-4D7F-B2A4-F9E0BD0E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30E-3FA8-4D93-8113-C6C864AF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7B9-A9DE-49F9-91A6-CF3F2E6A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977-072F-4343-B502-A4F30678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8ED-8399-42B7-9CE5-448B85E1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937-E5EC-42AC-AFE1-82D64EF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9DE-0FDE-4F88-A924-25152F7B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821-FF44-48F7-9395-F675C8B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029-FD70-4DAA-8821-5975FC3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3F3-3473-4C1A-8268-F9C6B847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B6A-4673-45B9-A942-A1BC470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F25C-C1C2-49C2-B192-47154A819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neti funktsioneerimine 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838080" y="1676520"/>
            <a:ext cx="7848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5707080" cy="4983120"/>
          </a:xfrm>
          <a:prstGeom prst="rect">
            <a:avLst/>
          </a:prstGeom>
          <a:ln w="0">
            <a:noFill/>
          </a:ln>
        </p:spPr>
      </p:pic>
      <p:sp>
        <p:nvSpPr>
          <p:cNvPr id="11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üüpiline DNSi ha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838080" y="16765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 on omaette protokol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, mida kasutatakse veebilehtede, piltide, tekstifailide, zip failide jne jne saatmiseks veebiserveri ja brauseri vah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353960" y="2498760"/>
            <a:ext cx="1905120" cy="1600200"/>
          </a:xfrm>
          <a:prstGeom prst="roundRect">
            <a:avLst>
              <a:gd name="adj" fmla="val 97"/>
            </a:avLst>
          </a:pr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6807240" y="3268800"/>
            <a:ext cx="1980720" cy="1096920"/>
            <a:chOff x="6807240" y="3268800"/>
            <a:chExt cx="1980720" cy="1096920"/>
          </a:xfrm>
        </p:grpSpPr>
        <p:sp>
          <p:nvSpPr>
            <p:cNvPr id="123" name="AutoShape 5"/>
            <p:cNvSpPr/>
            <p:nvPr/>
          </p:nvSpPr>
          <p:spPr>
            <a:xfrm>
              <a:off x="6807240" y="3268800"/>
              <a:ext cx="1980720" cy="1096920"/>
            </a:xfrm>
            <a:prstGeom prst="roundRect">
              <a:avLst>
                <a:gd name="adj" fmla="val 97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>
              <a:off x="6807240" y="3268800"/>
              <a:ext cx="1980720" cy="1096920"/>
            </a:xfrm>
            <a:prstGeom prst="roundRect">
              <a:avLst>
                <a:gd name="adj" fmla="val 9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K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(brauser)</a:t>
              </a:r>
              <a:r>
                <a:rPr b="0" lang="ar-SA" sz="1800" spc="-1" strike="noStrike">
                  <a:solidFill>
                    <a:srgbClr val="000000"/>
                  </a:solidFill>
                  <a:latin typeface="Bitstream Vera Sans"/>
                  <a:ea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küsib fa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AutoShape 7"/>
          <p:cNvSpPr/>
          <p:nvPr/>
        </p:nvSpPr>
        <p:spPr>
          <a:xfrm>
            <a:off x="1430280" y="2754360"/>
            <a:ext cx="189432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rver ann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õrguleh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faile)</a:t>
            </a:r>
            <a:r>
              <a:rPr b="0" lang="ar-SA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H="1" flipV="1">
            <a:off x="3344400" y="2582640"/>
            <a:ext cx="3397320" cy="990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863600" y="2384280"/>
            <a:ext cx="4158720" cy="62676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 protokolliga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tehaks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äring üle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rveri porti (tüüpiliselt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80)</a:t>
            </a:r>
            <a:r>
              <a:rPr b="0" lang="ar-SA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736200" y="4789440"/>
            <a:ext cx="446832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 protokolliga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aadetaks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stus üle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liendi porti (mis port, 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ütleb klient TCP sees)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344760" y="3141720"/>
            <a:ext cx="3436920" cy="9572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HTTP ühendused: veebilehtede küsi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838080" y="1676520"/>
            <a:ext cx="78487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HTTP päring on sisuliselt tekstiline käsk serverile: 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anna mulle selline fail”, kus näidatakse ä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konkreetne küsimus-kä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faili asukoht ja n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protokoll, mida küsija kasu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ja soovi korral lisainfot, nagu küsija programmi tüüp (Mozilla, I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,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Chro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, ..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HTTP</a:t>
            </a:r>
            <a:r>
              <a:rPr b="1" lang="et-EE" sz="2400" spc="-1" strike="noStrike">
                <a:solidFill>
                  <a:srgbClr val="ff0000"/>
                </a:solidFill>
                <a:latin typeface="Calibri"/>
                <a:ea typeface="msgothic"/>
              </a:rPr>
              <a:t>S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 on krüpteer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HTTP päring/vas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TP pä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838080" y="990720"/>
            <a:ext cx="78487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HTTP ei ole ehitatud “biti või baidi” tasemel, vaid teksti ridade kaupa: päis, tühi rida, tekstiread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HTTP/1.1 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Date: Thu, 06 Nov 2003 13:50:07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Server: Apache/1.3.19 (Unix) PHP/4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Last-Modified: Sat, 10 Apr 1999 09:29:18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ETag: "46d8-297-370f19e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Accept-Ranges: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ntent-Length: 6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nnection: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Content-Type: text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gothic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609480" y="1905120"/>
            <a:ext cx="228600" cy="2622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622600"/>
              <a:gd name="textAreaBottom" fmla="*/ 2622600 h 2622600"/>
            </a:gdLst>
            <a:ahLst/>
            <a:rect l="textAreaLeft" t="textAreaTop" r="textAreaRight" b="textAreaBottom"/>
            <a:pathLst>
              <a:path w="636" h="6562">
                <a:moveTo>
                  <a:pt x="635" y="0"/>
                </a:moveTo>
                <a:cubicBezTo>
                  <a:pt x="476" y="0"/>
                  <a:pt x="317" y="273"/>
                  <a:pt x="317" y="546"/>
                </a:cubicBezTo>
                <a:lnTo>
                  <a:pt x="317" y="2734"/>
                </a:lnTo>
                <a:cubicBezTo>
                  <a:pt x="317" y="3007"/>
                  <a:pt x="158" y="3280"/>
                  <a:pt x="0" y="3280"/>
                </a:cubicBezTo>
                <a:cubicBezTo>
                  <a:pt x="158" y="3280"/>
                  <a:pt x="317" y="3554"/>
                  <a:pt x="317" y="3827"/>
                </a:cubicBezTo>
                <a:lnTo>
                  <a:pt x="317" y="6015"/>
                </a:lnTo>
                <a:cubicBezTo>
                  <a:pt x="317" y="6288"/>
                  <a:pt x="476" y="6561"/>
                  <a:pt x="635" y="656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85040" y="2514600"/>
            <a:ext cx="307800" cy="1191960"/>
          </a:xfrm>
          <a:custGeom>
            <a:avLst/>
            <a:gdLst>
              <a:gd name="textAreaLeft" fmla="*/ 360 w 307800"/>
              <a:gd name="textAreaRight" fmla="*/ 307440 w 307800"/>
              <a:gd name="textAreaTop" fmla="*/ 360 h 1191960"/>
              <a:gd name="textAreaBottom" fmla="*/ 1191600 h 1191960"/>
            </a:gdLst>
            <a:ahLst/>
            <a:rect l="textAreaLeft" t="textAreaTop" r="textAreaRight" b="textAreaBottom"/>
            <a:pathLst>
              <a:path w="21600" h="83574">
                <a:moveTo>
                  <a:pt x="97" y="0"/>
                </a:moveTo>
                <a:arcTo wR="97" hR="97" stAng="16200000" swAng="-5400000"/>
                <a:lnTo>
                  <a:pt x="0" y="83477"/>
                </a:lnTo>
                <a:arcTo wR="97" hR="97" stAng="10800000" swAng="-5400000"/>
                <a:lnTo>
                  <a:pt x="21503" y="83574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 flipV="1">
            <a:off x="380880" y="4800600"/>
            <a:ext cx="609840" cy="4651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241920" y="5181480"/>
            <a:ext cx="560880" cy="643320"/>
          </a:xfrm>
          <a:custGeom>
            <a:avLst/>
            <a:gdLst>
              <a:gd name="textAreaLeft" fmla="*/ 360 w 560880"/>
              <a:gd name="textAreaRight" fmla="*/ 560520 w 560880"/>
              <a:gd name="textAreaTop" fmla="*/ 360 h 643320"/>
              <a:gd name="textAreaBottom" fmla="*/ 642960 h 643320"/>
            </a:gdLst>
            <a:ahLst/>
            <a:rect l="textAreaLeft" t="textAreaTop" r="textAreaRight" b="textAreaBottom"/>
            <a:pathLst>
              <a:path w="21600" h="24773">
                <a:moveTo>
                  <a:pt x="49" y="0"/>
                </a:moveTo>
                <a:arcTo wR="49" hR="49" stAng="16200000" swAng="-5400000"/>
                <a:lnTo>
                  <a:pt x="0" y="24724"/>
                </a:lnTo>
                <a:arcTo wR="49" hR="49" stAng="10800000" swAng="-5400000"/>
                <a:lnTo>
                  <a:pt x="21551" y="24773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ü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2484360" y="5021280"/>
            <a:ext cx="609840" cy="1371600"/>
          </a:xfrm>
          <a:custGeom>
            <a:avLst/>
            <a:gdLst>
              <a:gd name="textAreaLeft" fmla="*/ 0 w 609840"/>
              <a:gd name="textAreaRight" fmla="*/ 610200 w 6098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695" h="3812">
                <a:moveTo>
                  <a:pt x="0" y="0"/>
                </a:moveTo>
                <a:cubicBezTo>
                  <a:pt x="423" y="0"/>
                  <a:pt x="847" y="158"/>
                  <a:pt x="847" y="317"/>
                </a:cubicBezTo>
                <a:lnTo>
                  <a:pt x="847" y="1587"/>
                </a:lnTo>
                <a:cubicBezTo>
                  <a:pt x="847" y="1746"/>
                  <a:pt x="1270" y="1905"/>
                  <a:pt x="1694" y="1905"/>
                </a:cubicBezTo>
                <a:cubicBezTo>
                  <a:pt x="1270" y="1905"/>
                  <a:pt x="847" y="2064"/>
                  <a:pt x="847" y="2223"/>
                </a:cubicBezTo>
                <a:lnTo>
                  <a:pt x="847" y="3493"/>
                </a:lnTo>
                <a:cubicBezTo>
                  <a:pt x="847" y="3652"/>
                  <a:pt x="423" y="3811"/>
                  <a:pt x="0" y="3811"/>
                </a:cubicBezTo>
              </a:path>
            </a:pathLst>
          </a:custGeom>
          <a:noFill/>
          <a:ln w="255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3296880" y="5373720"/>
            <a:ext cx="915120" cy="64260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ge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HTTP protok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suk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CP ja UDP: kaks täiendavat protokolli IP-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or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DNS funktsioneeri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TTP protoko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Kapseld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Documents and Settings\Owner\Desktop\tmp\800px-UDP_encapsulation.svg.png"/>
          <p:cNvPicPr/>
          <p:nvPr/>
        </p:nvPicPr>
        <p:blipFill>
          <a:blip r:embed="rId1"/>
          <a:stretch/>
        </p:blipFill>
        <p:spPr>
          <a:xfrm>
            <a:off x="914400" y="144792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90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On 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ks põhi-protokolli, mis kasutavad IP-d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UD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 (user datagram protocol). Ei kontrollita, kas info jõudis pä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TCP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(transfer control protocol). Toimub kontr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Kumbalgi puhul (TCP näitel):</a:t>
            </a:r>
            <a:r>
              <a:rPr b="1" lang="en-GB" sz="2000" spc="-1" strike="noStrike">
                <a:solidFill>
                  <a:srgbClr val="ffffff"/>
                </a:solidFill>
                <a:latin typeface="Calibri"/>
                <a:ea typeface="msgothic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838080" y="3279600"/>
            <a:ext cx="4192560" cy="682920"/>
            <a:chOff x="838080" y="3279600"/>
            <a:chExt cx="4192560" cy="682920"/>
          </a:xfrm>
        </p:grpSpPr>
        <p:sp>
          <p:nvSpPr>
            <p:cNvPr id="56" name="AutoShape 7"/>
            <p:cNvSpPr/>
            <p:nvPr/>
          </p:nvSpPr>
          <p:spPr>
            <a:xfrm>
              <a:off x="838080" y="3279600"/>
              <a:ext cx="4192560" cy="68292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>
              <a:off x="838080" y="3279600"/>
              <a:ext cx="4192560" cy="68292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P Päis              Sisutekst (data)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9"/>
          <p:cNvSpPr/>
          <p:nvPr/>
        </p:nvSpPr>
        <p:spPr>
          <a:xfrm>
            <a:off x="2131920" y="330048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2154240" y="4803840"/>
            <a:ext cx="2876400" cy="758880"/>
            <a:chOff x="2154240" y="4803840"/>
            <a:chExt cx="2876400" cy="758880"/>
          </a:xfrm>
        </p:grpSpPr>
        <p:sp>
          <p:nvSpPr>
            <p:cNvPr id="60" name="AutoShape 11"/>
            <p:cNvSpPr/>
            <p:nvPr/>
          </p:nvSpPr>
          <p:spPr>
            <a:xfrm>
              <a:off x="2154240" y="4803840"/>
              <a:ext cx="2876400" cy="758880"/>
            </a:xfrm>
            <a:prstGeom prst="roundRect">
              <a:avLst>
                <a:gd name="adj" fmla="val 208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2"/>
            <p:cNvSpPr/>
            <p:nvPr/>
          </p:nvSpPr>
          <p:spPr>
            <a:xfrm>
              <a:off x="2154240" y="4803840"/>
              <a:ext cx="2876400" cy="75888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CP Päis     Vajali</a:t>
              </a:r>
              <a:r>
                <a:rPr b="0" lang="et-EE" sz="1800" spc="-1" strike="noStrike">
                  <a:solidFill>
                    <a:srgbClr val="000000"/>
                  </a:solidFill>
                  <a:latin typeface="Arial"/>
                </a:rPr>
                <a:t>k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s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Line 13"/>
          <p:cNvSpPr/>
          <p:nvPr/>
        </p:nvSpPr>
        <p:spPr>
          <a:xfrm>
            <a:off x="3276720" y="4878360"/>
            <a:ext cx="1440" cy="6094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133720" y="373392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2406600" y="4138560"/>
            <a:ext cx="3523680" cy="3996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saldab omakorda päisega inf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neti järgmised protokol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TCP ja U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TCP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on põhiprotoko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Kontrollib, kas paketid jõudsid pär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arandab järjekorra ja küsib uuesti kaotsiläinud paket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Optimeerib ühend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Calibri"/>
              </a:rPr>
              <a:t>UDP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on kiirem, ilma kontrollide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Ei kontrolli mida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Sobib hästi vähekriitilise mass-info saatmis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(heli, video, võrgumängu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61840" y="134604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Masinas elab korraga palju programme ja igaüks tahab saada/saata oma pakette. Millisele programmile konkreetne pakett sa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Programmidele antakse kasutamise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nummerdatud TCP või UDP por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(need ei ole füüsilised pistikud!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Ühenduse määrav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gothic"/>
              </a:rPr>
              <a:t>IP aadressid, pordid, protok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or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82560" y="1251000"/>
            <a:ext cx="784872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4800" indent="-33480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636480" y="1168560"/>
            <a:ext cx="2664000" cy="2739960"/>
            <a:chOff x="636480" y="1168560"/>
            <a:chExt cx="2664000" cy="2739960"/>
          </a:xfrm>
        </p:grpSpPr>
        <p:sp>
          <p:nvSpPr>
            <p:cNvPr id="72" name="AutoShape 4"/>
            <p:cNvSpPr/>
            <p:nvPr/>
          </p:nvSpPr>
          <p:spPr>
            <a:xfrm>
              <a:off x="636480" y="1168560"/>
              <a:ext cx="2664000" cy="2739960"/>
            </a:xfrm>
            <a:custGeom>
              <a:avLst/>
              <a:gdLst>
                <a:gd name="textAreaLeft" fmla="*/ 360 w 2664000"/>
                <a:gd name="textAreaRight" fmla="*/ 2663640 w 2664000"/>
                <a:gd name="textAreaTop" fmla="*/ 360 h 2739960"/>
                <a:gd name="textAreaBottom" fmla="*/ 2739600 h 2739960"/>
              </a:gdLst>
              <a:ahLst/>
              <a:rect l="textAreaLeft" t="textAreaTop" r="textAreaRight" b="textAreaBottom"/>
              <a:pathLst>
                <a:path w="21600" h="22216">
                  <a:moveTo>
                    <a:pt x="12" y="0"/>
                  </a:moveTo>
                  <a:arcTo wR="12" hR="12" stAng="16200000" swAng="-5400000"/>
                  <a:lnTo>
                    <a:pt x="0" y="22204"/>
                  </a:lnTo>
                  <a:arcTo wR="12" hR="12" stAng="10800000" swAng="-5400000"/>
                  <a:lnTo>
                    <a:pt x="21588" y="22216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>
              <a:off x="636480" y="1168560"/>
              <a:ext cx="2664000" cy="2739960"/>
            </a:xfrm>
            <a:custGeom>
              <a:avLst/>
              <a:gdLst>
                <a:gd name="textAreaLeft" fmla="*/ 360 w 2664000"/>
                <a:gd name="textAreaRight" fmla="*/ 2663640 w 2664000"/>
                <a:gd name="textAreaTop" fmla="*/ 360 h 2739960"/>
                <a:gd name="textAreaBottom" fmla="*/ 2739600 h 2739960"/>
              </a:gdLst>
              <a:ahLst/>
              <a:rect l="textAreaLeft" t="textAreaTop" r="textAreaRight" b="textAreaBottom"/>
              <a:pathLst>
                <a:path w="21600" h="22216">
                  <a:moveTo>
                    <a:pt x="12" y="0"/>
                  </a:moveTo>
                  <a:arcTo wR="12" hR="12" stAng="16200000" swAng="-5400000"/>
                  <a:lnTo>
                    <a:pt x="0" y="22204"/>
                  </a:lnTo>
                  <a:arcTo wR="12" hR="12" stAng="10800000" swAng="-5400000"/>
                  <a:lnTo>
                    <a:pt x="21588" y="22216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Masin o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IP aadressiga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Programmid tem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www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ftp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tel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Bitstream Vera Sans"/>
                </a:rPr>
                <a:t>... jne 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6"/>
          <p:cNvSpPr/>
          <p:nvPr/>
        </p:nvSpPr>
        <p:spPr>
          <a:xfrm>
            <a:off x="6291360" y="950760"/>
            <a:ext cx="2361960" cy="2971800"/>
          </a:xfrm>
          <a:custGeom>
            <a:avLst/>
            <a:gdLst>
              <a:gd name="textAreaLeft" fmla="*/ 360 w 2361960"/>
              <a:gd name="textAreaRight" fmla="*/ 2361600 w 2361960"/>
              <a:gd name="textAreaTop" fmla="*/ 360 h 2971800"/>
              <a:gd name="textAreaBottom" fmla="*/ 2971440 h 2971800"/>
            </a:gdLst>
            <a:ahLst/>
            <a:rect l="textAreaLeft" t="textAreaTop" r="textAreaRight" b="textAreaBottom"/>
            <a:pathLst>
              <a:path w="21600" h="27176">
                <a:moveTo>
                  <a:pt x="14" y="0"/>
                </a:moveTo>
                <a:arcTo wR="14" hR="14" stAng="16200000" swAng="-5400000"/>
                <a:lnTo>
                  <a:pt x="0" y="27162"/>
                </a:lnTo>
                <a:arcTo wR="14" hR="14" stAng="10800000" swAng="-5400000"/>
                <a:lnTo>
                  <a:pt x="21586" y="2717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cccc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3995640" y="1268280"/>
            <a:ext cx="301680" cy="301680"/>
            <a:chOff x="3995640" y="1268280"/>
            <a:chExt cx="301680" cy="301680"/>
          </a:xfrm>
        </p:grpSpPr>
        <p:sp>
          <p:nvSpPr>
            <p:cNvPr id="76" name="Oval 8"/>
            <p:cNvSpPr/>
            <p:nvPr/>
          </p:nvSpPr>
          <p:spPr>
            <a:xfrm>
              <a:off x="3995640" y="126828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9"/>
            <p:cNvSpPr/>
            <p:nvPr/>
          </p:nvSpPr>
          <p:spPr>
            <a:xfrm>
              <a:off x="4039920" y="1312560"/>
              <a:ext cx="211320" cy="2113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4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0"/>
          <p:cNvGrpSpPr/>
          <p:nvPr/>
        </p:nvGrpSpPr>
        <p:grpSpPr>
          <a:xfrm>
            <a:off x="3995640" y="2106720"/>
            <a:ext cx="301680" cy="377640"/>
            <a:chOff x="3995640" y="2106720"/>
            <a:chExt cx="301680" cy="377640"/>
          </a:xfrm>
        </p:grpSpPr>
        <p:sp>
          <p:nvSpPr>
            <p:cNvPr id="79" name="Oval 11"/>
            <p:cNvSpPr/>
            <p:nvPr/>
          </p:nvSpPr>
          <p:spPr>
            <a:xfrm>
              <a:off x="3995640" y="2106720"/>
              <a:ext cx="301680" cy="37764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2"/>
            <p:cNvSpPr/>
            <p:nvPr/>
          </p:nvSpPr>
          <p:spPr>
            <a:xfrm>
              <a:off x="4039920" y="2161800"/>
              <a:ext cx="211320" cy="2649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64960"/>
                <a:gd name="textAreaBottom" fmla="*/ 264600 h 264960"/>
              </a:gdLst>
              <a:ahLst/>
              <a:rect l="textAreaLeft" t="textAreaTop" r="textAreaRight" b="textAreaBottom"/>
              <a:pathLst>
                <a:path w="21600" h="27073">
                  <a:moveTo>
                    <a:pt x="161" y="0"/>
                  </a:moveTo>
                  <a:arcTo wR="161" hR="161" stAng="16200000" swAng="-5400000"/>
                  <a:lnTo>
                    <a:pt x="0" y="26912"/>
                  </a:lnTo>
                  <a:arcTo wR="161" hR="161" stAng="10800000" swAng="-5400000"/>
                  <a:lnTo>
                    <a:pt x="21439" y="27073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6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3"/>
          <p:cNvGrpSpPr/>
          <p:nvPr/>
        </p:nvGrpSpPr>
        <p:grpSpPr>
          <a:xfrm>
            <a:off x="3995640" y="3554280"/>
            <a:ext cx="301680" cy="301680"/>
            <a:chOff x="3995640" y="3554280"/>
            <a:chExt cx="301680" cy="301680"/>
          </a:xfrm>
        </p:grpSpPr>
        <p:sp>
          <p:nvSpPr>
            <p:cNvPr id="82" name="Oval 14"/>
            <p:cNvSpPr/>
            <p:nvPr/>
          </p:nvSpPr>
          <p:spPr>
            <a:xfrm>
              <a:off x="3995640" y="355428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5"/>
            <p:cNvSpPr/>
            <p:nvPr/>
          </p:nvSpPr>
          <p:spPr>
            <a:xfrm>
              <a:off x="4039920" y="3598560"/>
              <a:ext cx="211320" cy="2113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6"/>
          <p:cNvGrpSpPr/>
          <p:nvPr/>
        </p:nvGrpSpPr>
        <p:grpSpPr>
          <a:xfrm>
            <a:off x="5595840" y="1192320"/>
            <a:ext cx="301680" cy="301680"/>
            <a:chOff x="5595840" y="1192320"/>
            <a:chExt cx="301680" cy="301680"/>
          </a:xfrm>
        </p:grpSpPr>
        <p:sp>
          <p:nvSpPr>
            <p:cNvPr id="85" name="Oval 17"/>
            <p:cNvSpPr/>
            <p:nvPr/>
          </p:nvSpPr>
          <p:spPr>
            <a:xfrm>
              <a:off x="5595840" y="119232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>
              <a:off x="5640120" y="1236600"/>
              <a:ext cx="211320" cy="2127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747">
                  <a:moveTo>
                    <a:pt x="161" y="0"/>
                  </a:moveTo>
                  <a:arcTo wR="161" hR="161" stAng="16200000" swAng="-5400000"/>
                  <a:lnTo>
                    <a:pt x="0" y="21586"/>
                  </a:lnTo>
                  <a:arcTo wR="161" hR="161" stAng="10800000" swAng="-5400000"/>
                  <a:lnTo>
                    <a:pt x="21439" y="2174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4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5519880" y="2030400"/>
            <a:ext cx="301320" cy="301680"/>
            <a:chOff x="5519880" y="2030400"/>
            <a:chExt cx="301320" cy="301680"/>
          </a:xfrm>
        </p:grpSpPr>
        <p:sp>
          <p:nvSpPr>
            <p:cNvPr id="88" name="Oval 20"/>
            <p:cNvSpPr/>
            <p:nvPr/>
          </p:nvSpPr>
          <p:spPr>
            <a:xfrm>
              <a:off x="5519880" y="2030400"/>
              <a:ext cx="30132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1"/>
            <p:cNvSpPr/>
            <p:nvPr/>
          </p:nvSpPr>
          <p:spPr>
            <a:xfrm>
              <a:off x="5563800" y="2075040"/>
              <a:ext cx="212400" cy="212760"/>
            </a:xfrm>
            <a:custGeom>
              <a:avLst/>
              <a:gdLst>
                <a:gd name="textAreaLeft" fmla="*/ 360 w 212400"/>
                <a:gd name="textAreaRight" fmla="*/ 212040 w 21240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637">
                  <a:moveTo>
                    <a:pt x="158" y="0"/>
                  </a:moveTo>
                  <a:arcTo wR="158" hR="158" stAng="16200000" swAng="-5400000"/>
                  <a:lnTo>
                    <a:pt x="0" y="21479"/>
                  </a:lnTo>
                  <a:arcTo wR="158" hR="158" stAng="10800000" swAng="-5400000"/>
                  <a:lnTo>
                    <a:pt x="21442" y="21637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4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2"/>
          <p:cNvGrpSpPr/>
          <p:nvPr/>
        </p:nvGrpSpPr>
        <p:grpSpPr>
          <a:xfrm>
            <a:off x="5595840" y="3478320"/>
            <a:ext cx="301680" cy="301680"/>
            <a:chOff x="5595840" y="3478320"/>
            <a:chExt cx="301680" cy="301680"/>
          </a:xfrm>
        </p:grpSpPr>
        <p:sp>
          <p:nvSpPr>
            <p:cNvPr id="91" name="Oval 23"/>
            <p:cNvSpPr/>
            <p:nvPr/>
          </p:nvSpPr>
          <p:spPr>
            <a:xfrm>
              <a:off x="5595840" y="3478320"/>
              <a:ext cx="301680" cy="301680"/>
            </a:xfrm>
            <a:prstGeom prst="ellipse">
              <a:avLst/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24"/>
            <p:cNvSpPr/>
            <p:nvPr/>
          </p:nvSpPr>
          <p:spPr>
            <a:xfrm>
              <a:off x="5640120" y="3522600"/>
              <a:ext cx="211320" cy="212760"/>
            </a:xfrm>
            <a:custGeom>
              <a:avLst/>
              <a:gdLst>
                <a:gd name="textAreaLeft" fmla="*/ 360 w 211320"/>
                <a:gd name="textAreaRight" fmla="*/ 210960 w 211320"/>
                <a:gd name="textAreaTop" fmla="*/ 360 h 212760"/>
                <a:gd name="textAreaBottom" fmla="*/ 212400 h 212760"/>
              </a:gdLst>
              <a:ahLst/>
              <a:rect l="textAreaLeft" t="textAreaTop" r="textAreaRight" b="textAreaBottom"/>
              <a:pathLst>
                <a:path w="21600" h="21747">
                  <a:moveTo>
                    <a:pt x="161" y="0"/>
                  </a:moveTo>
                  <a:arcTo wR="161" hR="161" stAng="16200000" swAng="-5400000"/>
                  <a:lnTo>
                    <a:pt x="0" y="21586"/>
                  </a:lnTo>
                  <a:arcTo wR="161" hR="161" stAng="10800000" swAng="-5400000"/>
                  <a:lnTo>
                    <a:pt x="21439" y="21747"/>
                  </a:lnTo>
                  <a:arcTo wR="161" hR="161" stAng="5400000" swAng="-5400000"/>
                  <a:lnTo>
                    <a:pt x="21600" y="161"/>
                  </a:lnTo>
                  <a:arcTo wR="161" hR="16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5"/>
          <p:cNvSpPr/>
          <p:nvPr/>
        </p:nvSpPr>
        <p:spPr>
          <a:xfrm flipH="1">
            <a:off x="3301560" y="1420920"/>
            <a:ext cx="701640" cy="7596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6"/>
          <p:cNvSpPr/>
          <p:nvPr/>
        </p:nvSpPr>
        <p:spPr>
          <a:xfrm flipH="1">
            <a:off x="3225960" y="2335320"/>
            <a:ext cx="7776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 flipH="1" flipV="1">
            <a:off x="3301560" y="3622680"/>
            <a:ext cx="701640" cy="9216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5900760" y="1344600"/>
            <a:ext cx="38088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5824440" y="2182680"/>
            <a:ext cx="457200" cy="1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5900760" y="3630600"/>
            <a:ext cx="457200" cy="14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 flipV="1">
            <a:off x="2090880" y="1488600"/>
            <a:ext cx="1218960" cy="1235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 flipV="1">
            <a:off x="1938240" y="2327040"/>
            <a:ext cx="1295640" cy="625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1709640" y="3257640"/>
            <a:ext cx="1516320" cy="3124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4"/>
          <p:cNvSpPr/>
          <p:nvPr/>
        </p:nvSpPr>
        <p:spPr>
          <a:xfrm>
            <a:off x="3949920" y="2868480"/>
            <a:ext cx="437400" cy="3690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5"/>
          <p:cNvSpPr/>
          <p:nvPr/>
        </p:nvSpPr>
        <p:spPr>
          <a:xfrm>
            <a:off x="5475600" y="2716200"/>
            <a:ext cx="437400" cy="3690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6"/>
          <p:cNvSpPr/>
          <p:nvPr/>
        </p:nvSpPr>
        <p:spPr>
          <a:xfrm flipH="1">
            <a:off x="4292640" y="1420920"/>
            <a:ext cx="1311120" cy="76176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7"/>
          <p:cNvSpPr/>
          <p:nvPr/>
        </p:nvSpPr>
        <p:spPr>
          <a:xfrm flipH="1" flipV="1">
            <a:off x="4215960" y="1488960"/>
            <a:ext cx="1235160" cy="62568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8"/>
          <p:cNvSpPr/>
          <p:nvPr/>
        </p:nvSpPr>
        <p:spPr>
          <a:xfrm flipH="1">
            <a:off x="4368600" y="3630600"/>
            <a:ext cx="1158840" cy="7632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504120" y="1227240"/>
            <a:ext cx="2449080" cy="2763360"/>
          </a:xfrm>
          <a:custGeom>
            <a:avLst/>
            <a:gdLst>
              <a:gd name="textAreaLeft" fmla="*/ 360 w 2449080"/>
              <a:gd name="textAreaRight" fmla="*/ 2448720 w 2449080"/>
              <a:gd name="textAreaTop" fmla="*/ 360 h 2763360"/>
              <a:gd name="textAreaBottom" fmla="*/ 2763000 h 2763360"/>
            </a:gdLst>
            <a:ahLst/>
            <a:rect l="textAreaLeft" t="textAreaTop" r="textAreaRight" b="textAreaBottom"/>
            <a:pathLst>
              <a:path w="21600" h="24371">
                <a:moveTo>
                  <a:pt x="15" y="0"/>
                </a:moveTo>
                <a:arcTo wR="15" hR="15" stAng="16200000" swAng="-5400000"/>
                <a:lnTo>
                  <a:pt x="0" y="24356"/>
                </a:lnTo>
                <a:arcTo wR="15" hR="15" stAng="10800000" swAng="-5400000"/>
                <a:lnTo>
                  <a:pt x="21585" y="24371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asin 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IP aadressiga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rogrammid t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www bra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ftp 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tel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... jn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0"/>
          <p:cNvSpPr/>
          <p:nvPr/>
        </p:nvSpPr>
        <p:spPr>
          <a:xfrm flipH="1">
            <a:off x="6300720" y="3359160"/>
            <a:ext cx="209520" cy="2365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6281640" y="1344600"/>
            <a:ext cx="303480" cy="12924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2"/>
          <p:cNvSpPr/>
          <p:nvPr/>
        </p:nvSpPr>
        <p:spPr>
          <a:xfrm>
            <a:off x="6281640" y="2182680"/>
            <a:ext cx="228600" cy="762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3016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or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38080" y="1222200"/>
            <a:ext cx="784872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Ülesanne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 kui programmile on antud masina nimi, millega ühendust võtta (näiteks www.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ttu.e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), siis tuleb kõigepealt leida sellenimelise masina IP aa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DNS serveri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: serverid, mis sisaldavad “nimi&lt;-&gt;IP aadress” tabeleid ja vastavad päringutele “anna selle nime IP aadress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                   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msgothic"/>
              </a:rPr>
              <a:t>www.ttu.ee   &lt;--&gt;     193.40.254.1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Kuna DNS päring tuleb teha iga hariliku www-päringu jaoks, siis neid päringuid tehakse maailmas tohutult palju (rohkem kui mistahes muid infopäringuid). Üks masin või kanal ei pea seda va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Lahendu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hajutatud andmebaa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. DNS servereid on maailmas väga palju. Igaüks saab üles panna oma DNS serveri. DNS serverid süngivad omavahel infot oma tabel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NS: domain name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838080" y="1222200"/>
            <a:ext cx="784872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2018 novembris oli registreeritud ca 1.5 miljardit h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330 miljonit domeeninime ja väga suur hulk dns server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iin on “DNS hiearhia” ülemiste, nn root serverite asukoh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932120" y="2743200"/>
            <a:ext cx="5748120" cy="3392640"/>
          </a:xfrm>
          <a:prstGeom prst="rect">
            <a:avLst/>
          </a:prstGeom>
          <a:ln w="0">
            <a:noFill/>
          </a:ln>
        </p:spPr>
      </p:pic>
      <p:sp>
        <p:nvSpPr>
          <p:cNvPr id="11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9:59:35Z</dcterms:created>
  <dc:creator>Tanel Tammet</dc:creator>
  <dc:description/>
  <dc:language>en-US</dc:language>
  <cp:lastModifiedBy>Tanel Tammet</cp:lastModifiedBy>
  <dcterms:modified xsi:type="dcterms:W3CDTF">2018-11-26T04:51:48Z</dcterms:modified>
  <cp:revision>261</cp:revision>
  <dc:subject/>
  <dc:title>Networking protocols</dc:title>
</cp:coreProperties>
</file>